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A0E-8C35-4D27-8626-7C9BD8C3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C753-7A56-4547-AD6B-1B7A9F90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F96-AC74-4F09-BD7C-F996EBC6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47A1-E6DE-4FA0-B3BA-1EDE2272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471-7BA8-498C-AD94-4BFEADC8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D1E-0844-4A68-B20C-9EC77EBC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D562-11AD-49DD-BAEF-1B6BC220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01A-C232-41DB-878B-20027505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2AA-1EA9-4D80-8E23-1CCC87D9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16A-085F-4F5B-ABB8-054AF211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A66E-9535-47E0-93FF-D6957BC1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86CF-5368-4F09-A14C-18A382D2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CD5F-F85B-4109-A683-5E9687F97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591000" y="1490760"/>
            <a:ext cx="47908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Щастлив съм аз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до мене е Исус. /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ея слава, алилу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слава алилу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ея слава, алилуя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до мене е Исус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3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04920" y="1066680"/>
            <a:ext cx="59436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А бях аз роб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свободен съм с Исус. /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ея слава, алилу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слава, алилу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ея слава, алилуя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свободен съм с Исус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21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524400" y="2362320"/>
            <a:ext cx="55432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Ще кажа а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на всички за Исус. /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ея слава, алилу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слава, алилу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ея слава, алилуя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до мене е Исус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2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6:41:58Z</dcterms:created>
  <dc:creator>TrifonTrifonow</dc:creator>
  <dc:description/>
  <dc:language>en-US</dc:language>
  <cp:lastModifiedBy>TrifonTrifonow</cp:lastModifiedBy>
  <dcterms:modified xsi:type="dcterms:W3CDTF">2005-12-15T06:42:23Z</dcterms:modified>
  <cp:revision>1</cp:revision>
  <dc:subject/>
  <dc:title>Slide 1</dc:title>
</cp:coreProperties>
</file>